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73AE-CED4-49C8-AFAB-DB2BB52F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65A3-B465-491A-850A-51B6582E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AA2-A720-4D91-B36E-BF690093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CBD-A68D-4441-8134-B6D4161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B5F-90C5-46D2-90FB-CC65E03F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592-F948-49CD-A9CE-B5642BD8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4C3-3ACA-4AAB-A067-89E453C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F9A-B05C-42BB-911C-A750E84E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078-64CC-4BE8-95CA-1AED0FC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699-E80F-44B9-B2D0-7D62209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04B-788C-4C73-AA9D-9FADA12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4E3-5D5E-48F6-B7AF-1913F12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9E6-D9E4-47BF-881C-F2B8C6A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1BD-2B7F-4C4F-97EA-DB8CF77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F527-67CD-4178-B80E-218C4753F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39Z</dcterms:modified>
  <cp:revision>106</cp:revision>
  <dc:subject/>
  <dc:title>Profile</dc:title>
</cp:coreProperties>
</file>